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F46-B63E-4B03-A55A-E6E720C4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964-9536-46E6-9A7A-E75A6C12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9EE-4FB7-4524-BE21-AEE67315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6C8-79BA-49A8-8C94-262C2DC2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954-EE9F-4892-B28C-43CA0DBB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41D-6F0F-4EAA-ACB9-7483D8EA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547-6219-448F-ADE4-30F5DDAB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D8D-322D-4730-A1BB-81CA5477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1F0-93B5-4661-B06F-7785E36B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9C0-8FD2-46B3-9E26-ADA8CACB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777-546B-478D-B8CB-6079AFF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70F-3A67-4412-A309-9C389027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9541-4BE2-42DC-BAE0-894A0D43F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der Willi and Angel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inherit a nonimprinted gene on the father's chromosome #15 causes a human congenital disorder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der-Willi syndr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inherit one nonimprinted gen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BE3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n the mother's chromosome #15 ca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man syndr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Angelman Syndrome Poster Child"/>
          <p:cNvPicPr/>
          <p:nvPr/>
        </p:nvPicPr>
        <p:blipFill>
          <a:blip r:embed="rId1"/>
          <a:stretch/>
        </p:blipFill>
        <p:spPr>
          <a:xfrm>
            <a:off x="5334120" y="2438280"/>
            <a:ext cx="2738160" cy="335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114300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ma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3481560" cy="358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8380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der WIlli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1943280" cy="270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57600" y="1905120"/>
            <a:ext cx="1762200" cy="2685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380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rnal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7621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7913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nal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486040" y="4876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19520" y="1905120"/>
            <a:ext cx="354312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33920" y="3049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” gene is silence on all paternal chromosomes, while the “B” gene is silenced on all maternal chromos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819520" y="1905120"/>
            <a:ext cx="3581280" cy="264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876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this child lives their life with what phenoty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581280" cy="2648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3880" y="5335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is child is old enough to become a father. In each of his sperm cells…The old imprints are remo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3371760" cy="262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5029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spermatogium go through meiosis to form four haploid sperm cells…that look like the follow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362320" y="1981080"/>
            <a:ext cx="3438360" cy="271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286000" y="1981080"/>
            <a:ext cx="3753000" cy="2724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58672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mprints are then added…Upon which allele do the imprints get added because we are dealing with a FATHER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286000" y="1981080"/>
            <a:ext cx="3724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95280" y="304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the original chromosome was a gi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571920" cy="2695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3381480" cy="2657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666880" y="2133720"/>
            <a:ext cx="3476880" cy="2714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43000" y="1219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iosis occur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990720" y="2057400"/>
            <a:ext cx="1609560" cy="2666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324480" y="2133720"/>
            <a:ext cx="1676520" cy="2752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51055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mprints are put on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666880" y="2057400"/>
            <a:ext cx="3486240" cy="2714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90720" y="2057400"/>
            <a:ext cx="1695240" cy="2685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324480" y="2133720"/>
            <a:ext cx="17622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boy meets girl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72456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657600" cy="279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480" y="838080"/>
            <a:ext cx="3733920" cy="2828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029200" y="838080"/>
            <a:ext cx="3733920" cy="2828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666880" y="4143240"/>
            <a:ext cx="3591000" cy="2714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36576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37339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26:01Z</dcterms:created>
  <dc:creator>NPSD</dc:creator>
  <dc:description/>
  <dc:language>en-US</dc:language>
  <cp:lastModifiedBy>NPSD</cp:lastModifiedBy>
  <dcterms:modified xsi:type="dcterms:W3CDTF">2009-03-30T17:33:41Z</dcterms:modified>
  <cp:revision>5</cp:revision>
  <dc:subject/>
  <dc:title>Slide 1</dc:title>
</cp:coreProperties>
</file>